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wmf" ContentType="image/x-wmf"/>
  <Override PartName="/ppt/media/image25.wmf" ContentType="image/x-wmf"/>
  <Override PartName="/ppt/media/image26.png" ContentType="image/png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E296-26B5-486F-B830-49E4A0C3F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3C14-213F-4CBF-AFFB-5AF8B41F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E6AE-9F8E-4F78-93D6-75BB98D2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AB14-6825-44F3-82F1-B619FB39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58C3-D482-4342-A852-9970A7F5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68FE-F1DD-4552-B0DA-3E37EB0A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89D8-B324-409B-891F-5B634431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48FC-501D-499F-AFAA-0CD1446A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DC18-DE99-4D08-9E64-7912DCD4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76FD-1758-4473-8E69-D586B3E6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2F69-E11E-4C98-B71B-2A280D6B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B769-790E-46DF-A562-B7058918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A27D-DC3D-47E3-8204-6C9AD290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978D-6A4E-44A9-A649-4708DF67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C633-1A9B-43A2-B8A4-A689BBC7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40AE-D368-4D64-A217-3D4BA6AA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5B9A-B9D6-4D57-86F9-23E01EC7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AA90-40B6-4885-A0E1-E0C0B4D8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F4E6-C3E7-48E8-8BC8-CFB0413E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A43E-22A1-450E-8133-7E368474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E7E7-796F-422F-A4B3-8C52E0D7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88D-A836-4376-A237-B631D43E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4C3C-1A3D-48FB-BA5D-0D2F6774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B8F9-18A8-4A58-A6FD-A2754E7F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1577-B9F2-46EA-B5A7-4DDE397F6EDD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678B-D91E-4A51-AC23-4758E74B6FF2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747720" y="281160"/>
            <a:ext cx="7674120" cy="1514160"/>
          </a:xfrm>
          <a:prstGeom prst="rect">
            <a:avLst/>
          </a:prstGeom>
          <a:solidFill>
            <a:srgbClr val="00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i="1" lang="en-US" sz="3700" spc="-1" strike="noStrike">
                <a:solidFill>
                  <a:srgbClr val="ff33cc"/>
                </a:solidFill>
                <a:latin typeface="Arial"/>
              </a:rPr>
              <a:t>Стратегия</a:t>
            </a:r>
            <a:r>
              <a:rPr b="1" i="1" lang="en-US" sz="2900" spc="-1" strike="noStrike">
                <a:solidFill>
                  <a:srgbClr val="ff33cc"/>
                </a:solidFill>
                <a:latin typeface="Arial"/>
              </a:rPr>
              <a:t>                             социально-экономического развития города Тамбова до 2020 года</a:t>
            </a:r>
            <a:endParaRPr b="0" lang="en-US" sz="29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6237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99ff"/>
                </a:solidFill>
                <a:latin typeface="Tahoma"/>
              </a:rPr>
              <a:t>Администрация города Тамб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35280" y="2205000"/>
            <a:ext cx="5473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cap="rnd" w="9360">
            <a:solidFill>
              <a:srgbClr val="cc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ranklin Gothic Medium"/>
              </a:rPr>
              <a:t>Основные экономические показатели город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9040" y="60087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99ff"/>
                </a:solidFill>
                <a:latin typeface="Tahoma"/>
              </a:rPr>
              <a:t>Администрация города Тамб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5400" y="684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581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547640" y="1415880"/>
          <a:ext cx="6264360" cy="46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415880"/>
                    <a:ext cx="6264360" cy="46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cap="rnd" w="9360">
            <a:solidFill>
              <a:srgbClr val="cc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ranklin Gothic Medium"/>
              </a:rPr>
              <a:t>Основные экономические показатели город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9040" y="60087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99ff"/>
                </a:solidFill>
                <a:latin typeface="Tahoma"/>
              </a:rPr>
              <a:t>Администрация города Тамб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5400" y="684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55760" y="2300400"/>
          <a:ext cx="8226360" cy="3282840"/>
        </p:xfrm>
        <a:graphic>
          <a:graphicData uri="http://schemas.openxmlformats.org/drawingml/2006/table">
            <a:tbl>
              <a:tblPr/>
              <a:tblGrid>
                <a:gridCol w="3759120"/>
                <a:gridCol w="717480"/>
                <a:gridCol w="792000"/>
                <a:gridCol w="750960"/>
                <a:gridCol w="750960"/>
                <a:gridCol w="660600"/>
                <a:gridCol w="7952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2005 год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2006 год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2007 год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2008 год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2009 год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Зарегистрировано предприятий малого и среднего бизнеса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205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210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253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267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350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Количество зарегистрированных индивидуальных предпринимателе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чел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723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750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801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805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873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Сумма поступлений в бюджет города от малого и среднего предпринимательства от уплаты налогов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189,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189,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203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214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Размещено заказов на поставку товаров, выполнение работ, оказание услуг субъектами малого и среднего предпринимательства, в том числе: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1740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4000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134120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Предоставленное муниципальное имущество в аренду малому и среднему предпринимательству (имущественная поддержка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кв.м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10978,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21158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5394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4378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7151,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1585080" y="1652760"/>
            <a:ext cx="68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 Black"/>
              </a:rPr>
              <a:t>Таблица показателей развития предпринимательств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cap="rnd" w="9360">
            <a:solidFill>
              <a:srgbClr val="cc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ranklin Gothic Medium"/>
              </a:rPr>
              <a:t>Основные экономические показатели город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9040" y="60087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99ff"/>
                </a:solidFill>
                <a:latin typeface="Tahoma"/>
              </a:rPr>
              <a:t>Администрация города Тамб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5400" y="684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374840" y="2149560"/>
          <a:ext cx="6853320" cy="3946320"/>
        </p:xfrm>
        <a:graphic>
          <a:graphicData uri="http://schemas.openxmlformats.org/drawingml/2006/table">
            <a:tbl>
              <a:tblPr/>
              <a:tblGrid>
                <a:gridCol w="1733400"/>
                <a:gridCol w="1065240"/>
                <a:gridCol w="887400"/>
                <a:gridCol w="1065240"/>
                <a:gridCol w="1036800"/>
                <a:gridCol w="10652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Доходы бюджета, млн.руб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1996,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2372,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2888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3966,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4437,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Налоговые доходы бюджета, млн. руб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527,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764,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1071,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1181,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1267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Неналоговые доходы бюджета, млн.руб.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418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553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554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890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891,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</a:tr>
              <a:tr h="137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Средства, полученные в рамках межбюджетных отношений, млн. руб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923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954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1126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1178,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2261,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Расходы бюджета, млн.руб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2024,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2162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3095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4019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4713,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0" y="581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9040" y="1398600"/>
            <a:ext cx="79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 Black"/>
              </a:rPr>
              <a:t>Показатели бюджета городского округа - город Тамбо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cap="rnd" w="9360">
            <a:solidFill>
              <a:srgbClr val="cc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ranklin Gothic Medium"/>
              </a:rPr>
              <a:t>Основные экономические показатели город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9040" y="60087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99ff"/>
                </a:solidFill>
                <a:latin typeface="Tahoma"/>
              </a:rPr>
              <a:t>Администрация города Тамб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5400" y="684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1377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 Black"/>
              </a:rPr>
              <a:t>Структура расходов бюджета городского округа – город Тамбов, произведенных в 2009 году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581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689040" y="2065320"/>
          <a:ext cx="762804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065320"/>
                    <a:ext cx="762804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cap="rnd" w="9360">
            <a:solidFill>
              <a:srgbClr val="cc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ranklin Gothic Medium"/>
              </a:rPr>
              <a:t>Основные экономические показатели город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89040" y="60087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99ff"/>
                </a:solidFill>
                <a:latin typeface="Tahoma"/>
              </a:rPr>
              <a:t>Администрация города Тамб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5400" y="684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1468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Структура жилищного фонда города Тамбова по формам собственности за 2009 год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473120" y="2109960"/>
          <a:ext cx="6350040" cy="397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2109960"/>
                    <a:ext cx="6350040" cy="39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cap="rnd" w="9360">
            <a:solidFill>
              <a:srgbClr val="cc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ranklin Gothic Medium"/>
              </a:rPr>
              <a:t>Основные экономические показатели город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9040" y="60087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99ff"/>
                </a:solidFill>
                <a:latin typeface="Tahoma"/>
              </a:rPr>
              <a:t>Администрация города Тамб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5400" y="684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1604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 Black"/>
              </a:rPr>
              <a:t>Благоустройство городской территории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16000" y="2181240"/>
            <a:ext cx="6480360" cy="527040"/>
          </a:xfrm>
          <a:prstGeom prst="flowChartAlternateProcess">
            <a:avLst/>
          </a:prstGeom>
          <a:gradFill rotWithShape="0">
            <a:gsLst>
              <a:gs pos="0">
                <a:srgbClr val="5e4600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Площадь зеленых насаждений в общей площади территории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жилой застройки города составила в 2009 году 20,8%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16000" y="3139920"/>
            <a:ext cx="6480360" cy="527040"/>
          </a:xfrm>
          <a:prstGeom prst="flowChartAlternateProcess">
            <a:avLst/>
          </a:prstGeom>
          <a:gradFill rotWithShape="0">
            <a:gsLst>
              <a:gs pos="0">
                <a:srgbClr val="5e4600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Доля протяженности освещенных улиц в общей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протяженности улиц города достигла 99%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16000" y="3860640"/>
            <a:ext cx="6480360" cy="720720"/>
          </a:xfrm>
          <a:prstGeom prst="flowChartAlternateProcess">
            <a:avLst/>
          </a:prstGeom>
          <a:gradFill rotWithShape="0">
            <a:gsLst>
              <a:gs pos="0">
                <a:srgbClr val="5e4600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Black"/>
              </a:rPr>
              <a:t>Доля протяженности улично-дорожной сети с усовершенствованным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Black"/>
              </a:rPr>
              <a:t>покрытием, обеспеченной ливневой  канализацией, в общей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Black"/>
              </a:rPr>
              <a:t>протяженности улично-дорожной сети города составила 13,5%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16000" y="4844880"/>
            <a:ext cx="6480360" cy="527400"/>
          </a:xfrm>
          <a:prstGeom prst="flowChartAlternateProcess">
            <a:avLst/>
          </a:prstGeom>
          <a:gradFill rotWithShape="0">
            <a:gsLst>
              <a:gs pos="0">
                <a:srgbClr val="5e4600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Протяженность городской ливневой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канализации составляет 51,9 км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cap="rnd" w="9360">
            <a:solidFill>
              <a:srgbClr val="cc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ranklin Gothic Medium"/>
              </a:rPr>
              <a:t>Основные экономические показатели город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9040" y="60087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99ff"/>
                </a:solidFill>
                <a:latin typeface="Tahoma"/>
              </a:rPr>
              <a:t>Администрация города Тамб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5400" y="684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1604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 Black"/>
              </a:rPr>
              <a:t>Дорожное хозяйство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42920" y="2833920"/>
            <a:ext cx="6913800" cy="2228400"/>
          </a:xfrm>
          <a:prstGeom prst="rect">
            <a:avLst/>
          </a:prstGeom>
          <a:gradFill rotWithShape="0">
            <a:gsLst>
              <a:gs pos="0">
                <a:srgbClr val="5e4600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 Black"/>
              </a:rPr>
              <a:t>Протяженность городских дорог  325,9 км, в том числе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eaeaea"/>
                </a:solidFill>
                <a:latin typeface="Arial Black"/>
              </a:rPr>
              <a:t>с асфальто-бетонным покрытием - 241,0 км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 Black"/>
              </a:rPr>
              <a:t>с цементно-бетонным покрытием - 10,8 км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 Black"/>
              </a:rPr>
              <a:t>с щебеночным покрытием - 57,2 км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 Black"/>
              </a:rPr>
              <a:t>дороги без покрытия (грунтовые) - 16,9 км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cap="rnd" w="9360">
            <a:solidFill>
              <a:srgbClr val="cc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ranklin Gothic Medium"/>
              </a:rPr>
              <a:t>Основные экономические показатели город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9040" y="60087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99ff"/>
                </a:solidFill>
                <a:latin typeface="Tahoma"/>
              </a:rPr>
              <a:t>Администрация города Тамб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5400" y="684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68680" y="1371240"/>
            <a:ext cx="560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 Black"/>
              </a:rPr>
              <a:t>Представление мер социальной поддержки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 Black"/>
              </a:rPr>
              <a:t>жителям города за 2009 год: 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79360" y="1643760"/>
            <a:ext cx="84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 Black"/>
                <a:ea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581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9040" y="2181240"/>
            <a:ext cx="7869240" cy="527040"/>
          </a:xfrm>
          <a:prstGeom prst="flowChartAlternateProcess">
            <a:avLst/>
          </a:prstGeom>
          <a:gradFill rotWithShape="0">
            <a:gsLst>
              <a:gs pos="0">
                <a:srgbClr val="5e4600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7c7c7"/>
                </a:solidFill>
                <a:latin typeface="Arial Black"/>
              </a:rPr>
              <a:t>Меры социальной поддержки по оплате ЖКУ предоставлены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7c7c7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c7c7c7"/>
                </a:solidFill>
                <a:latin typeface="Arial Black"/>
              </a:rPr>
              <a:t>75326 жителям города Тамбова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89040" y="2924280"/>
            <a:ext cx="7869240" cy="527040"/>
          </a:xfrm>
          <a:prstGeom prst="flowChartAlternateProcess">
            <a:avLst/>
          </a:prstGeom>
          <a:gradFill rotWithShape="0">
            <a:gsLst>
              <a:gs pos="0">
                <a:srgbClr val="5e4600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3d3d3"/>
                </a:solidFill>
                <a:latin typeface="Arial Black"/>
              </a:rPr>
              <a:t>Выплачена единая денежная выплата 29248 жителям города Тамбова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9040" y="3619440"/>
            <a:ext cx="7869240" cy="527040"/>
          </a:xfrm>
          <a:prstGeom prst="flowChartAlternateProcess">
            <a:avLst/>
          </a:prstGeom>
          <a:gradFill rotWithShape="0">
            <a:gsLst>
              <a:gs pos="0">
                <a:srgbClr val="5e4600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3d3d3"/>
                </a:solidFill>
                <a:latin typeface="Arial Black"/>
              </a:rPr>
              <a:t>Предоставлены денежные компенсации 1798 гражданам</a:t>
            </a:r>
            <a:r>
              <a:rPr b="0" lang="en-US" sz="1800" spc="-1" strike="noStrike">
                <a:solidFill>
                  <a:srgbClr val="d3d3d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89040" y="4292640"/>
            <a:ext cx="7869240" cy="527040"/>
          </a:xfrm>
          <a:prstGeom prst="flowChartAlternateProcess">
            <a:avLst/>
          </a:prstGeom>
          <a:gradFill rotWithShape="0">
            <a:gsLst>
              <a:gs pos="0">
                <a:srgbClr val="5e4600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3d3d3"/>
                </a:solidFill>
                <a:latin typeface="Arial Black"/>
              </a:rPr>
              <a:t>Выплачены</a:t>
            </a:r>
            <a:r>
              <a:rPr b="0" lang="en-US" sz="1800" spc="-1" strike="noStrike">
                <a:solidFill>
                  <a:srgbClr val="d3d3d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d3d3d3"/>
                </a:solidFill>
                <a:latin typeface="Arial Black"/>
              </a:rPr>
              <a:t>пособии на детей 9316 получателям на сумму 56556,6 тыс. руб.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3d3d3"/>
                </a:solidFill>
                <a:latin typeface="Arial Black"/>
              </a:rPr>
              <a:t>Первично назначены 2159 пособий</a:t>
            </a:r>
            <a:r>
              <a:rPr b="0" lang="en-US" sz="1800" spc="-1" strike="noStrike">
                <a:solidFill>
                  <a:srgbClr val="d3d3d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cap="rnd" w="9360">
            <a:solidFill>
              <a:srgbClr val="cc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ranklin Gothic Medium"/>
              </a:rPr>
              <a:t>Основные экономические показатели город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89040" y="60087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99ff"/>
                </a:solidFill>
                <a:latin typeface="Tahoma"/>
              </a:rPr>
              <a:t>Администрация города Тамб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5400" y="684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93080" y="1415520"/>
            <a:ext cx="45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Образовательные учреждения город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16000" y="2181240"/>
            <a:ext cx="5400720" cy="96048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960480"/>
              <a:gd name="textAreaBottom" fmla="*/ 960840 h 96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e4600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 Black"/>
              </a:rPr>
              <a:t>57 детских садо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 Black"/>
              </a:rPr>
              <a:t>38 шко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32720" y="2057400"/>
            <a:ext cx="2411280" cy="1084320"/>
          </a:xfrm>
          <a:prstGeom prst="flowChartPreparation">
            <a:avLst/>
          </a:prstGeom>
          <a:gradFill rotWithShape="0">
            <a:gsLst>
              <a:gs pos="0">
                <a:srgbClr val="5e4600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 Black"/>
              </a:rPr>
              <a:t>23599 учащихся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 Black"/>
              </a:rPr>
              <a:t>и воспитанников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357720"/>
            <a:ext cx="5400720" cy="96012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960120"/>
              <a:gd name="textAreaBottom" fmla="*/ 960480 h 96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e4600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 Black"/>
              </a:rPr>
              <a:t>11 средних специальных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Arial Black"/>
              </a:rPr>
              <a:t>учебных заве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16000" y="4653000"/>
            <a:ext cx="5400720" cy="96048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960480"/>
              <a:gd name="textAreaBottom" fmla="*/ 960840 h 96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e4600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 Black"/>
              </a:rPr>
              <a:t>12 высших учебных заведений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732720" y="3233880"/>
            <a:ext cx="2411280" cy="1083960"/>
          </a:xfrm>
          <a:prstGeom prst="flowChartPreparation">
            <a:avLst/>
          </a:prstGeom>
          <a:gradFill rotWithShape="0">
            <a:gsLst>
              <a:gs pos="0">
                <a:srgbClr val="5e4600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 Black"/>
              </a:rPr>
              <a:t>7206 студентов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32720" y="4529160"/>
            <a:ext cx="2411280" cy="1084320"/>
          </a:xfrm>
          <a:prstGeom prst="flowChartPreparation">
            <a:avLst/>
          </a:prstGeom>
          <a:gradFill rotWithShape="0">
            <a:gsLst>
              <a:gs pos="0">
                <a:srgbClr val="5e4600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 Black"/>
              </a:rPr>
              <a:t>34338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 Black"/>
              </a:rPr>
              <a:t>студентов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cap="rnd" w="9360">
            <a:solidFill>
              <a:srgbClr val="cc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ranklin Gothic Medium"/>
              </a:rPr>
              <a:t>Основные экономические показатели город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9040" y="60087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99ff"/>
                </a:solidFill>
                <a:latin typeface="Tahoma"/>
              </a:rPr>
              <a:t>Администрация города Тамб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5400" y="684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581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89040" y="1828800"/>
          <a:ext cx="7993080" cy="37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828800"/>
                    <a:ext cx="7993080" cy="37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1693800" y="520236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356000" y="520236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2009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309400" y="1424160"/>
            <a:ext cx="477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 Black"/>
              </a:rPr>
              <a:t>Демографические показатели город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11280" y="6237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99ff"/>
                </a:solidFill>
                <a:latin typeface="Tahoma"/>
              </a:rPr>
              <a:t>Администрация города Тамб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193680"/>
          <a:ext cx="8748720" cy="62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3680"/>
                    <a:ext cx="874872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611280" y="74448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Стратегия - это механизм согласования интересов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различных групп в целях устойчивого развития города</a:t>
            </a:r>
            <a:br>
              <a:rPr sz="3600"/>
            </a:b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9731000">
            <a:off x="5940720" y="756720"/>
            <a:ext cx="15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 Black"/>
              </a:rPr>
              <a:t>общество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860600">
            <a:off x="1692000" y="941040"/>
            <a:ext cx="15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 Black"/>
              </a:rPr>
              <a:t>вла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9399200">
            <a:off x="611640" y="413028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 Black"/>
              </a:rPr>
              <a:t>промышленност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2239200">
            <a:off x="6314400" y="4314600"/>
            <a:ext cx="15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 Black"/>
              </a:rPr>
              <a:t>бизне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cap="rnd" w="9360">
            <a:solidFill>
              <a:srgbClr val="cc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ranklin Gothic Medium"/>
              </a:rPr>
              <a:t>Основные экономические показатели город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9040" y="60087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99ff"/>
                </a:solidFill>
                <a:latin typeface="Tahoma"/>
              </a:rPr>
              <a:t>Администрация города Тамб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5400" y="684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17840" y="1599120"/>
            <a:ext cx="3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c1e0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581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979640" y="2181240"/>
            <a:ext cx="5113440" cy="527040"/>
          </a:xfrm>
          <a:prstGeom prst="flowChartAlternateProcess">
            <a:avLst/>
          </a:prstGeom>
          <a:gradFill rotWithShape="0">
            <a:gsLst>
              <a:gs pos="0">
                <a:srgbClr val="5e4600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 Black"/>
              </a:rPr>
              <a:t>32 библиоте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979640" y="2949480"/>
            <a:ext cx="5113440" cy="527040"/>
          </a:xfrm>
          <a:prstGeom prst="flowChartAlternateProcess">
            <a:avLst/>
          </a:prstGeom>
          <a:gradFill rotWithShape="0">
            <a:gsLst>
              <a:gs pos="0">
                <a:srgbClr val="5e4600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 Black"/>
              </a:rPr>
              <a:t>8 учреждений клубного тип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979640" y="3670200"/>
            <a:ext cx="5113440" cy="527040"/>
          </a:xfrm>
          <a:prstGeom prst="flowChartAlternateProcess">
            <a:avLst/>
          </a:prstGeom>
          <a:gradFill rotWithShape="0">
            <a:gsLst>
              <a:gs pos="0">
                <a:srgbClr val="5e4600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 Black"/>
              </a:rPr>
              <a:t>6 детских школ искусств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79640" y="4389480"/>
            <a:ext cx="5113440" cy="527040"/>
          </a:xfrm>
          <a:prstGeom prst="flowChartAlternateProcess">
            <a:avLst/>
          </a:prstGeom>
          <a:gradFill rotWithShape="0">
            <a:gsLst>
              <a:gs pos="0">
                <a:srgbClr val="5e4600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 Black"/>
              </a:rPr>
              <a:t>2 театра, 4 музея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979640" y="5289480"/>
            <a:ext cx="5113440" cy="527040"/>
          </a:xfrm>
          <a:prstGeom prst="flowChartAlternateProcess">
            <a:avLst/>
          </a:prstGeom>
          <a:gradFill rotWithShape="0">
            <a:gsLst>
              <a:gs pos="0">
                <a:srgbClr val="5e4600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 Black"/>
              </a:rPr>
              <a:t>Государственная филармония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 Black"/>
              </a:rPr>
              <a:t>выставочный зал, городской парк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82160" y="1608120"/>
            <a:ext cx="38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 Black"/>
              </a:rPr>
              <a:t>Учреждения культуры города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cap="rnd" w="9360">
            <a:solidFill>
              <a:srgbClr val="cc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ranklin Gothic Medium"/>
              </a:rPr>
              <a:t>Основные экономические показатели города</a:t>
            </a:r>
            <a:r>
              <a:rPr b="1" lang="en-US" sz="3600" spc="-1" strike="noStrike">
                <a:solidFill>
                  <a:srgbClr val="ffff00"/>
                </a:solidFill>
                <a:latin typeface="Franklin Gothic Medium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9040" y="60087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99ff"/>
                </a:solidFill>
                <a:latin typeface="Tahoma"/>
              </a:rPr>
              <a:t>Администрация города Тамб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95400" y="684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322520" y="1599120"/>
            <a:ext cx="3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c1e0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581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89040" y="2179800"/>
            <a:ext cx="7129440" cy="3143160"/>
          </a:xfrm>
          <a:prstGeom prst="rect">
            <a:avLst/>
          </a:prstGeom>
          <a:gradFill rotWithShape="0">
            <a:gsLst>
              <a:gs pos="0">
                <a:srgbClr val="5e4600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SzPct val="102812"/>
              <a:buBlip>
                <a:blip r:embed="rId1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 Black"/>
              </a:rPr>
              <a:t>- 89 спортивных залов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 Black"/>
              </a:rPr>
              <a:t>- 117 спортивных плоскостных площадок (это площадки учебных заведений, дворовых территорий, места активного отдыха)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 Black"/>
              </a:rPr>
              <a:t>- 12 плавательных бассейнов, из них 4 предоставляют услуги населению города (Надежда, Антей, Атлетико, Дельфин)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 Black"/>
              </a:rPr>
              <a:t>- 4 лыжные базы,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 Black"/>
              </a:rPr>
              <a:t>- 13 стрелковых тиров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 Black"/>
              </a:rPr>
              <a:t>	</a:t>
            </a:r>
            <a:r>
              <a:rPr b="0" lang="ru-RU" sz="2000" spc="-1" strike="noStrike">
                <a:solidFill>
                  <a:srgbClr val="eaeaea"/>
                </a:solidFill>
                <a:latin typeface="Arial Black"/>
              </a:rPr>
              <a:t>- 2 дворца спорта.</a:t>
            </a:r>
            <a:r>
              <a:rPr b="0" lang="ru-RU" sz="1800" spc="-1" strike="noStrike">
                <a:solidFill>
                  <a:srgbClr val="eaeaea"/>
                </a:solidFill>
                <a:latin typeface="Arial Black"/>
              </a:rPr>
              <a:t>	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124000" y="141588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 Black"/>
              </a:rPr>
              <a:t>Спортивные сооружения город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ranklin Gothic Medium"/>
              </a:rPr>
              <a:t>Факторы формирования стратегии 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11280" y="6237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99ff"/>
                </a:solidFill>
                <a:latin typeface="Tahoma"/>
              </a:rPr>
              <a:t>Администрация города Тамб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288040" y="1415880"/>
            <a:ext cx="3394080" cy="4821480"/>
          </a:xfrm>
          <a:custGeom>
            <a:avLst/>
            <a:gdLst>
              <a:gd name="textAreaLeft" fmla="*/ 165600 w 3394080"/>
              <a:gd name="textAreaRight" fmla="*/ 3228480 w 3394080"/>
              <a:gd name="textAreaTop" fmla="*/ 165600 h 4821480"/>
              <a:gd name="textAreaBottom" fmla="*/ 4655880 h 4821480"/>
            </a:gdLst>
            <a:ahLst/>
            <a:rect l="textAreaLeft" t="textAreaTop" r="textAreaRight" b="textAreaBottom"/>
            <a:pathLst>
              <a:path w="21600" h="30683">
                <a:moveTo>
                  <a:pt x="3600" y="0"/>
                </a:moveTo>
                <a:arcTo wR="3600" hR="3600" stAng="16200000" swAng="-5400000"/>
                <a:lnTo>
                  <a:pt x="0" y="27083"/>
                </a:lnTo>
                <a:arcTo wR="3600" hR="3600" stAng="10800000" swAng="-5400000"/>
                <a:lnTo>
                  <a:pt x="18000" y="306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СТРАТЕГИЯ СОЦИАЛЬНО-ЭКОНОМИЧЕСКОГО РАЗВИТИЯ ГОРОДА ДО 2020 ГОД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773520" y="1486080"/>
            <a:ext cx="996840" cy="504720"/>
          </a:xfrm>
          <a:prstGeom prst="rightArrow">
            <a:avLst>
              <a:gd name="adj1" fmla="val 50000"/>
              <a:gd name="adj2" fmla="val 49376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288040" y="1592280"/>
            <a:ext cx="0" cy="482436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3753000"/>
            <a:ext cx="3600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Географические, исторические, экономические особенности города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2995560"/>
            <a:ext cx="3600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Потребности горожан (доходы, жилье, образование, здоровье, культурные потребности) </a:t>
            </a: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4651200"/>
            <a:ext cx="3600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Генеральный план города Тамбова, градостроительная политика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5405400"/>
            <a:ext cx="3600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Рыночные отношения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1486080"/>
            <a:ext cx="360036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Стратегия развития Российской Федерации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73520" y="2238480"/>
            <a:ext cx="996840" cy="504720"/>
          </a:xfrm>
          <a:prstGeom prst="rightArrow">
            <a:avLst>
              <a:gd name="adj1" fmla="val 50000"/>
              <a:gd name="adj2" fmla="val 49376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773520" y="3067200"/>
            <a:ext cx="996840" cy="504720"/>
          </a:xfrm>
          <a:prstGeom prst="rightArrow">
            <a:avLst>
              <a:gd name="adj1" fmla="val 50000"/>
              <a:gd name="adj2" fmla="val 49376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773520" y="3824280"/>
            <a:ext cx="996840" cy="504720"/>
          </a:xfrm>
          <a:prstGeom prst="rightArrow">
            <a:avLst>
              <a:gd name="adj1" fmla="val 50000"/>
              <a:gd name="adj2" fmla="val 49376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73520" y="4722840"/>
            <a:ext cx="996840" cy="504720"/>
          </a:xfrm>
          <a:prstGeom prst="rightArrow">
            <a:avLst>
              <a:gd name="adj1" fmla="val 50000"/>
              <a:gd name="adj2" fmla="val 49376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2166840"/>
            <a:ext cx="3600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Стратегия развития Тамбовской области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773520" y="5477040"/>
            <a:ext cx="996840" cy="504720"/>
          </a:xfrm>
          <a:prstGeom prst="rightArrow">
            <a:avLst>
              <a:gd name="adj1" fmla="val 50000"/>
              <a:gd name="adj2" fmla="val 49376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11280" y="6237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99ff"/>
                </a:solidFill>
                <a:latin typeface="Tahoma"/>
              </a:rPr>
              <a:t>Администрация города Тамб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0"/>
            <a:ext cx="8569080" cy="1125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4600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Миссия Стратегии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улучшение качества жизни насел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44760" y="1125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Цели стратеги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1995840"/>
            <a:ext cx="9144000" cy="3930120"/>
          </a:xfrm>
          <a:prstGeom prst="rect">
            <a:avLst/>
          </a:prstGeom>
          <a:gradFill rotWithShape="0">
            <a:gsLst>
              <a:gs pos="0">
                <a:srgbClr val="5e4600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>
              <a:lnSpc>
                <a:spcPct val="100000"/>
              </a:lnSpc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стабилизация роста промышленного производства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обеспечение инвестиционной привлекательности города Тамбова;  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поддержка и развитие предпринимательства; 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значительное повышение действенности системы управления, его эффективности в плане достижения комплексного конечного результата, каким является рост экономики и повышение качества жизни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переход Тамбова к категории городов с высоким уровнем бюджетной обеспеченности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создание образовательной системы, соответствующей современным требованиям и обеспечение ее стабильного функционирования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укрепление здоровья горожан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формирование и поддержание духовно-нравственных основ общества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создание условий всесторонней профессиональной и творческой самореализации горожан, вовлечение в общественно-политическую жизнь города, привлечение горожан к занятию физической культурой и спортом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SzPct val="10295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организация эффективного функционирования социально-трудовой сферы города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SzPct val="10295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улучшение экологической обстановки на территории города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SzPct val="10295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эффективное функционирование предприятий ЖКХ и повышение качества их услуг;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SzPct val="10295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развитие градостроительства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11280" y="6237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99ff"/>
                </a:solidFill>
                <a:latin typeface="Tahoma"/>
              </a:rPr>
              <a:t>Администрация города Тамб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0920" y="0"/>
            <a:ext cx="8642160" cy="1125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4600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Миссия Стратегии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улучшение качества жизни насел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124000" y="11253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ЗАДАЧИ, НЕОБХОДИМЫЕ 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ДЛЯ ДОСТИЖЕНИЯ ЦЕЛЕЙ СТРАТЕГИ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2343960"/>
            <a:ext cx="9144000" cy="3673080"/>
          </a:xfrm>
          <a:prstGeom prst="rect">
            <a:avLst/>
          </a:prstGeom>
          <a:gradFill rotWithShape="0">
            <a:gsLst>
              <a:gs pos="0">
                <a:srgbClr val="5e4600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>
              <a:lnSpc>
                <a:spcPct val="100000"/>
              </a:lnSpc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развитие экспортного потенциала промышленного комплекса, производства импортозамещающих материалов;</a:t>
            </a: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SzPct val="1027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внедрение энергосберегающих технологий;</a:t>
            </a: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SzPct val="1027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повышение доли инноваций в объеме промышленного производства, стимулирование инноваций;</a:t>
            </a: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SzPct val="1027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создание благоприятных финансово-кредитных и налоговых условий развития экономики;</a:t>
            </a: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SzPct val="1027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расширение ипотечного кредитования;</a:t>
            </a: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SzPct val="1027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совершенствования нормативно-правового обеспечения предпринимательства в рамках полномочий местного самоуправления;</a:t>
            </a: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SzPct val="1027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укрепление социального статуса и престижа предпринимателя;</a:t>
            </a: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SzPct val="1027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постановка системы стратегического планирования; </a:t>
            </a: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SzPct val="1027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повышение доверия населения к власти;</a:t>
            </a: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SzPct val="1027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сокращение административных барьеров для населения и хозяйствующих субъектов. В сфере обслуживания населения;</a:t>
            </a: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SzPct val="1027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переход к стратегической модели управления;  </a:t>
            </a: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SzPct val="1027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проведение эффективной кадровой политики;</a:t>
            </a: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SzPct val="10270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ужесточение мер воздействия и совершенствование налогового администрирования в целях повышения собираемости налогов и сборов, наиболее эффективное использование имущества, находящегося в муниципальной собственности;</a:t>
            </a: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611280" y="6237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99ff"/>
                </a:solidFill>
                <a:latin typeface="Tahoma"/>
              </a:rPr>
              <a:t>Администрация города Тамб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0"/>
            <a:ext cx="8569080" cy="1125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e4600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Миссия Стратегии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улучшение качества жизни насел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24000" y="11253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ЗАДАЧИ, НЕОБХОДИМЫЕ 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ДЛЯ ДОСТИЖЕНИЯ ЦЕЛЕЙ СТРАТЕГИ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2226240"/>
            <a:ext cx="9144000" cy="3810240"/>
          </a:xfrm>
          <a:prstGeom prst="rect">
            <a:avLst/>
          </a:prstGeom>
          <a:gradFill rotWithShape="0">
            <a:gsLst>
              <a:gs pos="0">
                <a:srgbClr val="5e4600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eaeaea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расширение платежеспособного спроса населения, содействие развитию потребительского рынка и сферы платных услуг населению;</a:t>
            </a: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eaeaea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увеличения объемов ежегодного строительства объектов социальной инфраструктуры;</a:t>
            </a: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eaeaea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развитие  жилищного сектора;</a:t>
            </a: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eaeaea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развитие  инженерной и транспортной инфраструктуры города;</a:t>
            </a: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eaeaea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переход к интенсивному градостроительному развитию города;</a:t>
            </a: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eaeaea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развитие коммерческого сектора образовательных услуг;</a:t>
            </a: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eaeaea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создание единой базы данных образовательных услуг города;</a:t>
            </a: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eaeaea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совершенствование системы здравоохранения;</a:t>
            </a: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eaeaea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повышение уровня оказания медицинской помощи населению;</a:t>
            </a: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eaeaea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продолжение формирования духовно-нравственных позиций в молодежной среде на основе современной системы молодежной политики;</a:t>
            </a: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eaeaea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развитие системы физической культуры и спорта;</a:t>
            </a: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eaeaea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укрепление институтов гражданского общества, рост их влияния и ответственности за проводимою хозяйственную политику в городе, воспитание чувства сплоченности, ответственности и понимания необходимости консолидации в усилий в решении городских проблем;</a:t>
            </a: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eaeaea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создание в городе эффективной системы социально-трудовых отношений;</a:t>
            </a: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eaeaea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300" spc="-1" strike="noStrike">
                <a:solidFill>
                  <a:srgbClr val="eaeaea"/>
                </a:solidFill>
                <a:latin typeface="Arial Black"/>
              </a:rPr>
              <a:t>охрана окружающей среды.</a:t>
            </a:r>
            <a:endParaRPr b="0" lang="en-US" sz="1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Franklin Gothic Medium"/>
              </a:rPr>
              <a:t>Основные условия развития Тамбов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82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Наличие Стратегии социально-экономического развит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82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Реализация Стратегии всеми её участникам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82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Наличие необходимых ресурс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82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Поддержка Стратегии жителями и хозяйствующими субъектами город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82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 Black"/>
              </a:rPr>
              <a:t>Эффективная система управления реализации Стратегии</a:t>
            </a:r>
            <a:r>
              <a:rPr b="1" lang="en-US" sz="2800" spc="-1" strike="noStrike">
                <a:solidFill>
                  <a:srgbClr val="ffff6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6237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99ff"/>
                </a:solidFill>
                <a:latin typeface="Tahoma"/>
              </a:rPr>
              <a:t>Администрация города Тамб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ranklin Gothic Medium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Franklin Gothic Medium"/>
              </a:rPr>
              <a:t>Механизм реализации Стратеги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79280" y="1415520"/>
            <a:ext cx="89647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82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Законодательная и правовая основа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82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Городские целевые и ведомственные программы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82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Инвестиционные и инновационные проекты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82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Мониторинг выполнения мероприятий Страте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82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Уточнение приоритетов в ходе реализации мероприятий Стратегии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82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Корректировка мероприятий Стратегии;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82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Контроль за реализацией мероприятий Стратегии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823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Отчетность и информирование в СМИ о выполнении мероприятий Страте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11280" y="6237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99ff"/>
                </a:solidFill>
                <a:latin typeface="Tahoma"/>
              </a:rPr>
              <a:t>Администрация города Тамб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ranklin Gothic Medium"/>
              </a:rPr>
              <a:t>Экономические и социальные ориентиры стратегического развития город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11280" y="6237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99ff"/>
                </a:solidFill>
                <a:latin typeface="Tahoma"/>
              </a:rPr>
              <a:t>Администрация города Тамб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" y="1484280"/>
            <a:ext cx="3394080" cy="4392720"/>
          </a:xfrm>
          <a:custGeom>
            <a:avLst/>
            <a:gdLst>
              <a:gd name="textAreaLeft" fmla="*/ 165600 w 3394080"/>
              <a:gd name="textAreaRight" fmla="*/ 3228480 w 3394080"/>
              <a:gd name="textAreaTop" fmla="*/ 165600 h 4392720"/>
              <a:gd name="textAreaBottom" fmla="*/ 4227120 h 4392720"/>
            </a:gdLst>
            <a:ahLst/>
            <a:rect l="textAreaLeft" t="textAreaTop" r="textAreaRight" b="textAreaBottom"/>
            <a:pathLst>
              <a:path w="21600" h="27955">
                <a:moveTo>
                  <a:pt x="3600" y="0"/>
                </a:moveTo>
                <a:arcTo wR="3600" hR="3600" stAng="16200000" swAng="-5400000"/>
                <a:lnTo>
                  <a:pt x="0" y="24355"/>
                </a:lnTo>
                <a:arcTo wR="3600" hR="3600" stAng="10800000" swAng="-5400000"/>
                <a:lnTo>
                  <a:pt x="18000" y="279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Стратегически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ориентиры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851280" y="3429000"/>
            <a:ext cx="792000" cy="1079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643280" y="1557360"/>
            <a:ext cx="0" cy="482436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32360" y="1628640"/>
            <a:ext cx="38163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Население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2565360"/>
            <a:ext cx="38163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Инфраструктура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32360" y="3500280"/>
            <a:ext cx="38163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Инвестиц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003640" y="4437000"/>
            <a:ext cx="38163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Инновац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03640" y="5373720"/>
            <a:ext cx="381636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75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Интеллек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11280" y="6237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99ff"/>
                </a:solidFill>
                <a:latin typeface="Tahoma"/>
              </a:rPr>
              <a:t>Администрация города Тамб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26920" y="18900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РЕЗУЛЬТАТЫ РЕАЛИЗАЦИИ СТРАТЕГИ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50920" y="1052640"/>
            <a:ext cx="8893080" cy="1296720"/>
          </a:xfrm>
          <a:custGeom>
            <a:avLst/>
            <a:gdLst>
              <a:gd name="textAreaLeft" fmla="*/ 1389600 w 8893080"/>
              <a:gd name="textAreaRight" fmla="*/ 7781760 w 8893080"/>
              <a:gd name="textAreaTop" fmla="*/ 324000 h 1296720"/>
              <a:gd name="textAreaBottom" fmla="*/ 972720 h 1296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Среднегодовой рост объемов промышленного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производства: в 2010-2013 гг. – на 11,4%,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2014-2019 гг. – на 22,7%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50920" y="2349360"/>
            <a:ext cx="8893080" cy="1297080"/>
          </a:xfrm>
          <a:custGeom>
            <a:avLst/>
            <a:gdLst>
              <a:gd name="textAreaLeft" fmla="*/ 1389600 w 8893080"/>
              <a:gd name="textAreaRight" fmla="*/ 7781760 w 8893080"/>
              <a:gd name="textAreaTop" fmla="*/ 324360 h 1297080"/>
              <a:gd name="textAreaBottom" fmla="*/ 973080 h 1297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Рост инвестиций в основной капитал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за счет всех источников финансирования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в 6,6 раза к уровню 2009 года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50920" y="3646440"/>
            <a:ext cx="8893080" cy="1297080"/>
          </a:xfrm>
          <a:custGeom>
            <a:avLst/>
            <a:gdLst>
              <a:gd name="textAreaLeft" fmla="*/ 1389600 w 8893080"/>
              <a:gd name="textAreaRight" fmla="*/ 7781760 w 8893080"/>
              <a:gd name="textAreaTop" fmla="*/ 324360 h 1297080"/>
              <a:gd name="textAreaBottom" fmla="*/ 973080 h 1297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Повышение реальных денежных доходов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населения в 1,6 раза по сравнению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с уровнем 2009 года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0920" y="4940280"/>
            <a:ext cx="8893080" cy="1297080"/>
          </a:xfrm>
          <a:custGeom>
            <a:avLst/>
            <a:gdLst>
              <a:gd name="textAreaLeft" fmla="*/ 1389600 w 8893080"/>
              <a:gd name="textAreaRight" fmla="*/ 7781760 w 8893080"/>
              <a:gd name="textAreaTop" fmla="*/ 324360 h 1297080"/>
              <a:gd name="textAreaBottom" fmla="*/ 973080 h 1297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Среднегодовые темпы роста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товарооборота на 16,5% (в действующих ценах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Franklin Gothic Medium"/>
              </a:rPr>
              <a:t>Город Тамбов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Franklin Gothic Medium"/>
              </a:rPr>
              <a:t>краткая характеристик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 algn="just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Образован – в 1636 году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63600" indent="-363600" algn="just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Территория –  9132 г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63600" indent="-363600" algn="just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Население (на 31.12.2009) –  277,7 тыс. чел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63600" indent="-363600" algn="just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Численность занятых на предприятиях и организациях по чистым видам экономической деятельности (на 01.01.2010) –  99238 чел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63600" indent="-363600" algn="just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Объем промышленного производства (за 2009 год) –  39500  млн.  руб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63600" indent="-363600" algn="just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Объем инвестиций в основной капитал (за 2009 год) –  19551  млн.  руб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63600" indent="-363600" algn="just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Жилищный фонд города составляет 6177 тыс. кв.м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63600" indent="-363600" algn="just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Протяженность городских дорог  составляет 325,9 км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63600" indent="-363600" algn="just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В городе действуют 16 больничных учреждений, 31 амбулаторно - поликлинических учреждений</a:t>
            </a: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63600" indent="-363600" algn="just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В городе действуют 118 образовательных учреждений, из которых 57 детских садов, 38 школ, 11 средних специальных учебных заведений, 12 высших учебных заве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1280" y="6237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99ff"/>
                </a:solidFill>
                <a:latin typeface="Tahoma"/>
              </a:rPr>
              <a:t>Администрация города Тамб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611280" y="6237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99ff"/>
                </a:solidFill>
                <a:latin typeface="Tahoma"/>
              </a:rPr>
              <a:t>Администрация города Тамб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26920" y="18900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РЕЗУЛЬТАТЫ РЕАЛИЗАЦИИ СТРАТЕГИ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0920" y="1052640"/>
            <a:ext cx="8893080" cy="1296720"/>
          </a:xfrm>
          <a:custGeom>
            <a:avLst/>
            <a:gdLst>
              <a:gd name="textAreaLeft" fmla="*/ 1389600 w 8893080"/>
              <a:gd name="textAreaRight" fmla="*/ 7781760 w 8893080"/>
              <a:gd name="textAreaTop" fmla="*/ 324000 h 1296720"/>
              <a:gd name="textAreaBottom" fmla="*/ 972720 h 1296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Уровень регистрируемой безработицы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– </a:t>
            </a: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менее 1% от численности экономически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активного населения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0920" y="2349360"/>
            <a:ext cx="8893080" cy="1297080"/>
          </a:xfrm>
          <a:custGeom>
            <a:avLst/>
            <a:gdLst>
              <a:gd name="textAreaLeft" fmla="*/ 1389600 w 8893080"/>
              <a:gd name="textAreaRight" fmla="*/ 7781760 w 8893080"/>
              <a:gd name="textAreaTop" fmla="*/ 324360 h 1297080"/>
              <a:gd name="textAreaBottom" fmla="*/ 973080 h 1297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Обеспечение населения города объектами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социальной и инженерной инфраструктуры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0920" y="3646440"/>
            <a:ext cx="8893080" cy="1297080"/>
          </a:xfrm>
          <a:custGeom>
            <a:avLst/>
            <a:gdLst>
              <a:gd name="textAreaLeft" fmla="*/ 1389600 w 8893080"/>
              <a:gd name="textAreaRight" fmla="*/ 7781760 w 8893080"/>
              <a:gd name="textAreaTop" fmla="*/ 324360 h 1297080"/>
              <a:gd name="textAreaBottom" fmla="*/ 973080 h 1297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Укрепление здоровья горожан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0920" y="4940280"/>
            <a:ext cx="8893080" cy="1297080"/>
          </a:xfrm>
          <a:custGeom>
            <a:avLst/>
            <a:gdLst>
              <a:gd name="textAreaLeft" fmla="*/ 1389600 w 8893080"/>
              <a:gd name="textAreaRight" fmla="*/ 7781760 w 8893080"/>
              <a:gd name="textAreaTop" fmla="*/ 324360 h 1297080"/>
              <a:gd name="textAreaBottom" fmla="*/ 973080 h 1297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 Black"/>
              </a:rPr>
              <a:t>Повышение уровня образования населения города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635040"/>
          </a:xfrm>
          <a:prstGeom prst="rect">
            <a:avLst/>
          </a:prstGeom>
          <a:noFill/>
          <a:ln cap="rnd" w="9360">
            <a:solidFill>
              <a:srgbClr val="cc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ranklin Gothic Medium"/>
              </a:rPr>
              <a:t>Основные экономические показатели город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1280" y="6237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99ff"/>
                </a:solidFill>
                <a:latin typeface="Tahoma"/>
              </a:rPr>
              <a:t>Администрация города Тамб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83680" y="937440"/>
            <a:ext cx="62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 Black"/>
              </a:rPr>
              <a:t>Структура занятости по отраслям экономики, в 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5400" y="684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71400" y="1438200"/>
          <a:ext cx="7932960" cy="4305240"/>
        </p:xfrm>
        <a:graphic>
          <a:graphicData uri="http://schemas.openxmlformats.org/drawingml/2006/table">
            <a:tbl>
              <a:tblPr/>
              <a:tblGrid>
                <a:gridCol w="4476960"/>
                <a:gridCol w="1805040"/>
                <a:gridCol w="1650960"/>
              </a:tblGrid>
              <a:tr h="24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 Black"/>
                          <a:ea typeface="Times New Roman"/>
                        </a:rPr>
                        <a:t>Наименование видов экономической 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 Black"/>
                          <a:ea typeface="Times New Roman"/>
                        </a:rPr>
                        <a:t>деятельности 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реднесписочная численность работников на 01.01.20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человек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 Black"/>
                          <a:ea typeface="Times New Roman"/>
                        </a:rPr>
                        <a:t>Сельское хозяйство, охота и лесное хозяйство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12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,91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 Black"/>
                          <a:ea typeface="Times New Roman"/>
                        </a:rPr>
                        <a:t>Рыболовство, рыбоводство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0,005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 Black"/>
                          <a:ea typeface="Times New Roman"/>
                        </a:rPr>
                        <a:t>Обрабатывающие производство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264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0,4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 Black"/>
                          <a:ea typeface="Times New Roman"/>
                        </a:rPr>
                        <a:t>Производство и распределение электроэнергии, газа и воды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994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7,04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 Black"/>
                          <a:ea typeface="Times New Roman"/>
                        </a:rPr>
                        <a:t>Строительство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22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,53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 Black"/>
                          <a:ea typeface="Times New Roman"/>
                        </a:rPr>
                        <a:t>Оптовая и розничная торговля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584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,62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 Black"/>
                          <a:ea typeface="Times New Roman"/>
                        </a:rPr>
                        <a:t>Гостиницы и рестораны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87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0,89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 Black"/>
                          <a:ea typeface="Times New Roman"/>
                        </a:rPr>
                        <a:t>Транспорт и связь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909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,96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 Black"/>
                          <a:ea typeface="Times New Roman"/>
                        </a:rPr>
                        <a:t>Финансовая деятельность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529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,54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 Black"/>
                          <a:ea typeface="Times New Roman"/>
                        </a:rPr>
                        <a:t>Операции с недвижимым имуществом, аренда и предоставление услуг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142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,19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 Black"/>
                          <a:ea typeface="Times New Roman"/>
                        </a:rPr>
                        <a:t>Государственное управление и обеспечение военной безопасности; обязательное социальное обеспечение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402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5,5 2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 Black"/>
                          <a:ea typeface="Times New Roman"/>
                        </a:rPr>
                        <a:t>Образование 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3689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3,79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 Black"/>
                          <a:ea typeface="Times New Roman"/>
                        </a:rPr>
                        <a:t>Здравоохранение и предоставление социальных услуг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753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2,85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 Black"/>
                          <a:ea typeface="Times New Roman"/>
                        </a:rPr>
                        <a:t>Предоставление прочих услуг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646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,68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Arial Black"/>
                          <a:ea typeface="Times New Roman"/>
                        </a:rPr>
                        <a:t>Итого: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99238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4600"/>
                        </a:gs>
                        <a:gs pos="100000">
                          <a:srgbClr val="cc99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0" y="712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635040"/>
          </a:xfrm>
          <a:prstGeom prst="rect">
            <a:avLst/>
          </a:prstGeom>
          <a:noFill/>
          <a:ln cap="rnd" w="9360">
            <a:solidFill>
              <a:srgbClr val="cc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ranklin Gothic Medium"/>
              </a:rPr>
              <a:t>Основные экономические показатели город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6237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99ff"/>
                </a:solidFill>
                <a:latin typeface="Tahoma"/>
              </a:rPr>
              <a:t>Администрация города Тамб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5400" y="684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5760" y="1330200"/>
          <a:ext cx="7788240" cy="44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1330200"/>
                    <a:ext cx="7788240" cy="44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cap="rnd" w="9360">
            <a:solidFill>
              <a:srgbClr val="cc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ranklin Gothic Medium"/>
              </a:rPr>
              <a:t>Основные экономические показатели город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1280" y="6237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99ff"/>
                </a:solidFill>
                <a:latin typeface="Tahoma"/>
              </a:rPr>
              <a:t>Администрация города Тамб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5400" y="684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55760" y="2446200"/>
          <a:ext cx="8226360" cy="3075120"/>
        </p:xfrm>
        <a:graphic>
          <a:graphicData uri="http://schemas.openxmlformats.org/drawingml/2006/table">
            <a:tbl>
              <a:tblPr/>
              <a:tblGrid>
                <a:gridCol w="3252600"/>
                <a:gridCol w="3743280"/>
                <a:gridCol w="1230480"/>
              </a:tblGrid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</a:rPr>
                        <a:t>Наименование видов экономической деятельности в промышленном производстве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</a:rPr>
                        <a:t>Объем отгруженных товаров собственного производства, выполненных работ и услуг собственными силами, тыс. руб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</a:rPr>
                        <a:t>Удельный вес в общем объеме, %</a:t>
                      </a: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Добывающие производства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</a:rPr>
                        <a:t>119178</a:t>
                      </a: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</a:rPr>
                        <a:t>0,4</a:t>
                      </a: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Обрабатывающие производств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</a:rPr>
                        <a:t>20679556</a:t>
                      </a: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</a:rPr>
                        <a:t>71,8</a:t>
                      </a: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stretch/>
                    </a:blipFill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Производство и распределение электроэнергии, газа и воды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</a:rPr>
                        <a:t>8018505</a:t>
                      </a: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</a:rPr>
                        <a:t>27,8</a:t>
                      </a: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stretch/>
                    </a:blip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</a:rPr>
                        <a:t>Итого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</a:rPr>
                        <a:t>28817239</a:t>
                      </a: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</a:rPr>
                        <a:t>100</a:t>
                      </a:r>
                      <a:r>
                        <a:rPr b="1" lang="en-US" sz="1400" spc="-1" strike="noStrike">
                          <a:solidFill>
                            <a:srgbClr val="d3d3d3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279360" y="1171800"/>
            <a:ext cx="8613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 Black"/>
              </a:rPr>
              <a:t>Объем отгруженных товаров собственного производства, выполненных работ и услуг собственными силами за 2009 год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924120"/>
          </a:xfrm>
          <a:prstGeom prst="rect">
            <a:avLst/>
          </a:prstGeom>
          <a:noFill/>
          <a:ln cap="rnd" w="9360">
            <a:solidFill>
              <a:srgbClr val="cc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ranklin Gothic Medium"/>
              </a:rPr>
              <a:t>Основные экономические показатели город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6237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99ff"/>
                </a:solidFill>
                <a:latin typeface="Tahoma"/>
              </a:rPr>
              <a:t>Администрация города Тамб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5400" y="684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9360" y="1279080"/>
            <a:ext cx="86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 Black"/>
              </a:rPr>
              <a:t>Структура основных видов обрабатывающих производств за 2009 год, в 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403280" y="1881360"/>
          <a:ext cx="676764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81360"/>
                    <a:ext cx="676764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cap="rnd" w="9360">
            <a:solidFill>
              <a:srgbClr val="cc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ranklin Gothic Medium"/>
              </a:rPr>
              <a:t>Основные экономические показатели город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9040" y="60087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99ff"/>
                </a:solidFill>
                <a:latin typeface="Tahoma"/>
              </a:rPr>
              <a:t>Администрация города Тамб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5400" y="684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58720" y="1415880"/>
          <a:ext cx="8369280" cy="41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415880"/>
                    <a:ext cx="8369280" cy="4100760"/>
                  </a:xfrm>
                  <a:prstGeom prst="rect">
                    <a:avLst/>
                  </a:prstGeom>
                  <a:ln w="9360">
                    <a:solidFill>
                      <a:srgbClr val="cc99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cap="rnd" w="9360">
            <a:solidFill>
              <a:srgbClr val="cc99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Franklin Gothic Medium"/>
              </a:rPr>
              <a:t>Основные экономические показатели город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9040" y="60087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ff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99ff"/>
                </a:solidFill>
                <a:latin typeface="Tahoma"/>
              </a:rPr>
              <a:t>Администрация города Тамбо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5400" y="684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689040" y="1415880"/>
          <a:ext cx="7638840" cy="423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415880"/>
                    <a:ext cx="7638840" cy="42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07:19:04Z</dcterms:created>
  <dc:creator>user</dc:creator>
  <dc:description/>
  <dc:language>en-US</dc:language>
  <cp:lastModifiedBy>user</cp:lastModifiedBy>
  <dcterms:modified xsi:type="dcterms:W3CDTF">2011-01-31T14:22:07Z</dcterms:modified>
  <cp:revision>23</cp:revision>
  <dc:subject/>
  <dc:title>Слайд 1</dc:title>
</cp:coreProperties>
</file>